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1E9-85FA-4008-A169-B56C4ADF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E0A-847B-4567-82FE-85815F09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C47-83F5-4A83-8A0E-43FC907F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917-2601-445A-A1F5-2DEB599A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1BA5-52F6-491C-9E02-A7CB1645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0A92-57AA-44C1-A0DB-AD4000DA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5708-024A-4C15-959F-2ED46EA0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7CE6-143B-4899-80F1-5909AB18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1C67-055B-4E33-9757-48E125F3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1FB5-9BF9-4820-AF51-7896A92C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31F3-EC07-4171-ABD7-0A2AA14E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3A99-60FA-44FA-BEBD-8CAA35E9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4D20-25AC-4936-B475-879D0FF6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32C1-38F2-4927-86BE-B230C433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02E8-5DC9-4F2C-85EE-04368F2A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9111-4D7F-4024-A17B-89EE7D0F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4295-13FB-4BCC-AA67-F514D1BF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8E7-56DC-495D-BF21-6ECAEF4E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817-4BD4-45C9-AC96-B7DE5EEE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F83-AA90-4B6A-A6D5-CE9D2340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37D-D99D-403E-A284-FE5416C5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3DD-1A1E-41B9-8D9D-13636E3D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867-D8A6-40E4-A315-68106AB3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082-2C50-4F89-8CE9-14338167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7D76-CFE2-4140-B665-0BC508F60B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F155-50CE-4ED4-A0B1-AC354D8404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Analysis Through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3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Slumdog Milliona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hook to catch readers’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may describe a scene or lines from the fil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may connect the events in the film to events in the world today (consider some of the events we have discusse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ember to include the director, writer and actors (only the main actor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MUST HAVE A THESIS STATEMENT –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may be as simple as “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lumdog Millionai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ultimately about the ability of love to overcome poverty, greed and violence, which makes it a film that many people can relate to and enjo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brief summary of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mmary should be no longer than 6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cus on the fa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terary Asp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choose ONLY 1 of the following aspects to address in you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make sure that you develop your ideas by providing specific exa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say that the train is a symbol because it is used a l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mention the different times the trains appeared in the film and try to give some meaning to why Danny Boyle, the director, would use the tra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ramatic Asp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hoose one of the following to analy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stumes (dres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ke Up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alogu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sider which of these aspects made the film stand ou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ember to include specific examples as to why you want to choose these exampl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nematic Asp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hoose two of the following to analy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mera Ang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diting Techniq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mera Mov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cial Eff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mera Sho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ember to be specific in your analysis. Provide specific examples that prove your poi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’t just point out the example, but explain why it is importa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what stood out about this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 is consistent with you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final opinion about the fil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completed as a 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include pictures, but please do not have them overwhelm your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your slides are consist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2:27:57Z</dcterms:created>
  <dc:creator>Regina Pham</dc:creator>
  <dc:description/>
  <dc:language>en-US</dc:language>
  <cp:lastModifiedBy>brianshevory</cp:lastModifiedBy>
  <dcterms:modified xsi:type="dcterms:W3CDTF">2009-10-23T11:23:33Z</dcterms:modified>
  <cp:revision>3</cp:revision>
  <dc:subject/>
  <dc:title>Social Analysis Through Film</dc:title>
</cp:coreProperties>
</file>