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9F12-D4CF-4703-B475-6683BD12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BA31-CA06-4F8C-B4A4-C541AC38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F893-60E9-4A92-819B-673713BD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7E0B-7DC4-4484-ACE5-5EE036FF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B8A4-2160-4BDE-A9E6-ED935358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D6B0-19FB-42A8-A1D2-4673A920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7A44-DEB6-4B42-9760-982B76DC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4A49-5D6F-4A14-8875-1702AC5E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263C-B388-4A2D-8413-B98430A5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82EB-89A2-4239-92B1-4B6AA80A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2A62-8B6F-48DF-97C0-C5514498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4C0D-2936-4221-AD74-391824A3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5111-92DE-4208-9654-1F9C166D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D2A3-89D9-4164-A233-261F3510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EF14-5A7F-430C-9D6F-F8D85774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C9B5-C3F1-47C3-9880-33EBBDDA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D7CB-F872-4CF9-9BAD-108C63E0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0B3F-37EA-4EB9-A14C-496F3E33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7E31-EA06-41E2-AA85-8F9794B4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A90-419A-46F0-8F99-B7842CC0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F89-1143-492B-9A87-6DA1EE1F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13A8-FC05-4B15-874E-571D218C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5D1-8A7B-4556-89B2-E2525ED4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618-4EC5-45D2-893D-A454C773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7320-C777-4FE5-9810-9CA0F61D9F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CD9A-5AA6-4CC7-9526-CF42F5FCF3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Analysis Through 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3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Slumdog Millionai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hook to catch readers’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 may describe a scene or lines from the fil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 may connect the events in the film to events in the world today (consider some of the events we have discussed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member to include the director, writer and actors (only the main actor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 MUST HAVE A THESIS STATEMENT –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may be as simple as “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Slumdog Millionair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ultimately about the ability of love to overcome poverty, greed and violence, which makes it a film that many people can relate to and enjoy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 brief summary of the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ummary should be no longer than 6 sent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focus on the fa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terary Asp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choose ONLY 1 of the following aspects to address in you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ase make sure that you develop your ideas by providing specific examp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say that the train is a symbol because it is used a l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mention the different times the trains appeared in the film and try to give some meaning to why Danny Boyle, the director, would use the trai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ramatic Asp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choose one of the following to analy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stumes (dres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ke Up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alogu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sider which of these aspects made the film stand ou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member to include specific examples as to why you want to choose these example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inematic Aspec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choose two of the following to analy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mera Ang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gh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diting Techniq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mera Mov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ecial Effe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mera Sho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member to be specific in your analysis. Provide specific examples that prove your poin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n’t just point out the example, but explain why it is importan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up what stood out about this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it is consistent with you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 final opinion about the fil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be completed as a power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include pictures, but please do not have them overwhelm your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at your slides are consist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02:27:57Z</dcterms:created>
  <dc:creator>Regina Pham</dc:creator>
  <dc:description/>
  <dc:language>en-US</dc:language>
  <cp:lastModifiedBy>brianshevory</cp:lastModifiedBy>
  <dcterms:modified xsi:type="dcterms:W3CDTF">2009-10-23T11:23:33Z</dcterms:modified>
  <cp:revision>3</cp:revision>
  <dc:subject/>
  <dc:title>Social Analysis Through Film</dc:title>
</cp:coreProperties>
</file>