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65B-00E8-46BF-8944-FE19DE36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FE3-F848-4DCE-9903-7B123F51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561-D1BE-44B2-994D-5A28CE64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AC1-F361-4824-B669-3F3AD1AA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80BD-B285-4091-9114-622F1DB3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EF7C-538B-4CB9-AD3A-B2FAAA3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8C06-8DE6-4950-A7F0-21E79B1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14B4-6BAF-4ED4-B788-3441AFBD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68C-8C2E-4231-8208-1736F94F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2F21-08B3-456E-80EC-D245B3E4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60E9-3A14-4395-9E1B-A52AB641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D78-FA72-4D0F-95E3-4EF036E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3D9-AA6C-4D51-BAE1-A94D522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202E-A9BD-4FEC-9406-B8DCA991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B6F-769C-4FA8-84FD-84C71996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43E-F9CD-4843-BEC5-1362A4C1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7A0E-75F0-4D27-8231-37ECCD56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B2F-0FD4-4674-99CB-6B6E197C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CCD-1C1A-4EEF-B4D8-8CA3194E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812-0CF9-467F-807F-53EB4227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A42-CEC4-4E65-9824-F9B808C6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390-D8A8-46C4-8635-BF6EFC9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8A3-B644-4D78-8807-6DEE232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9E2-D27B-459F-8859-F795431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9D6-F161-4315-BBC8-75F0717DCA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B3CC-FFDF-41DC-9CB4-AE1880720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Analysis Through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hook to catch readers’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describe a scene or lines from the fil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connect the events in the film to events in the world today (consider some of the events we have discuss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the director, writer and actors (only the main ac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UST HAVE A THESIS STATEMENT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may be as simple as “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ultimately about the ability of love to overcome poverty, greed and violence, which makes it a film that many people can relate to and enjo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brief summary of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mmary should be no longer than 6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cus on the f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terary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hoose ONLY 1 of the following aspects to address in you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make sure that you develop your ideas by providing specific exa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ay that the train is a symbol because it is used a l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ention the different times the trains appeared in the film and try to give some meaning to why Danny Boyle, the director, would use the tr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ra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one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tumes (dre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ider which of these aspects made the film stand 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specific examples as to why you want to choose these examp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ne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two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iting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al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Sh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be specific in your analysis. Provide specific examples that prove your poi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’t just point out the example, but explain why it is importa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what stood out about this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consistent with you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final opinion about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completed as a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include pictures, but please do not have them overwhelm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lides a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2:27:57Z</dcterms:created>
  <dc:creator>Regina Pham</dc:creator>
  <dc:description/>
  <dc:language>en-US</dc:language>
  <cp:lastModifiedBy>brianshevory</cp:lastModifiedBy>
  <dcterms:modified xsi:type="dcterms:W3CDTF">2009-10-23T11:23:33Z</dcterms:modified>
  <cp:revision>3</cp:revision>
  <dc:subject/>
  <dc:title>Social Analysis Through Film</dc:title>
</cp:coreProperties>
</file>