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E626-9B73-4547-BBD4-1C2AEFB5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848-B80E-4029-8248-543BB99C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63B-E4FA-4F54-93C2-FFB5C241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B2A-3CD5-4E06-94DC-7E8FE68F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8FA-32BF-4443-A865-3F440BE1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FAED-CC5E-44C8-8A93-BBE2D94D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7A0B-BE4F-4BED-845C-3B3FCC8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FE58-4A5D-45D5-BF92-A89BFABB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D323-AB88-42EE-AC0C-23C33350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A766-A93D-42F6-9C83-C20FD8AC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F5C6-3603-4121-93F4-78B7B57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3A4-23AE-491D-B2DB-BCE077E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C51A-E1C6-460C-AAC3-761E3DF8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44BF-F94F-4F8F-9623-031AD54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71BA-E996-4B51-87EC-E02101C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8E93-71D6-40B2-9B42-0B227640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5C8B-A795-412C-897C-999DDA58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316-AA8F-404F-A4EA-3DED616C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B0D-B34E-44F1-8637-E8F382F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EF9-F9B8-4D0A-9D39-D13304D4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49B-EAB0-4DF2-B3BB-8072FD5F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7CE-0DD1-44ED-B0BA-899635E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87C-0E28-428D-B962-ADB355A7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2DD-336F-4C34-87BE-B23F23E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BC67-CA57-4E3E-8339-2EC47D62A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EDF-179C-481F-9523-1167A90D9C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Analysis Through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hook to catch readers’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describe a scene or lines from the fil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connect the events in the film to events in the world today (consider some of the events we have discuss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the director, writer and actors (only the main ac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UST HAVE A THESIS STATEMENT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may be as simple as “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ultimately about the ability of love to overcome poverty, greed and violence, which makes it a film that many people can relate to and enjo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brief summary of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mmary should be no longer than 6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cus on the f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terary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hoose ONLY 1 of the following aspects to address in you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make sure that you develop your ideas by providing specific exa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ay that the train is a symbol because it is used a l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ention the different times the trains appeared in the film and try to give some meaning to why Danny Boyle, the director, would use the tr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ra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one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tumes (dre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ider which of these aspects made the film stand 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specific examples as to why you want to choose these examp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ne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two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iting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al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Sh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be specific in your analysis. Provide specific examples that prove your poi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’t just point out the example, but explain why it is importa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what stood out about this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consistent with you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final opinion about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completed as a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include pictures, but please do not have them overwhelm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lides a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2:27:57Z</dcterms:created>
  <dc:creator>Regina Pham</dc:creator>
  <dc:description/>
  <dc:language>en-US</dc:language>
  <cp:lastModifiedBy>brianshevory</cp:lastModifiedBy>
  <dcterms:modified xsi:type="dcterms:W3CDTF">2009-10-23T11:23:33Z</dcterms:modified>
  <cp:revision>3</cp:revision>
  <dc:subject/>
  <dc:title>Social Analysis Through Film</dc:title>
</cp:coreProperties>
</file>